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5AD-0C4E-4EB4-B430-D21ED0A0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B6E-879B-4B9E-B737-73744BE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DA-44FB-4C0B-819A-058597B0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7DA-DC2B-4587-B6ED-3317AF96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CBC-C7A6-4C59-9D88-16678E37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9CD-73AC-42B4-8A23-E8317B5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2860-9D70-401F-976B-9782E9F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E53-AE44-4D9E-A2A0-13F2032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D0F-0EA4-4ECD-8C2B-19ED21C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452E-6249-4BB8-A488-22206A5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AE8-1300-48B6-8321-D09AEC1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7C4-979A-4730-985C-A7AB409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F9D-3DC8-4E78-8745-BC0AE96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DE0-F322-48DE-93D2-F4D1C33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FE75-B31D-4A91-B696-316FD55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133-F4D7-4917-B2E5-6F384739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F33-D67C-474A-B8BD-CE7540CC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AEF-9940-4A93-BC76-8F3F534D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CB4-26BB-417F-9CFB-FB7FC21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D0A-0BA1-4CB7-AFC7-F307A1E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02E-011C-496E-A0DA-E702B80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8D2-EE14-4A59-8567-7C0E66CB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18F-F40F-49D4-A700-E6ACE5B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BA5-3C55-4651-AEDB-85CF17D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4BE7-8E09-4542-A328-358D6816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1B8-E999-4CE7-91DB-19E5B210F2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0/03/Alligator_Left_Forepaw.jpg&amp;imgrefurl=http://commons.wikimedia.org/wiki/Image:Alligator_Left_Forepaw.jpg&amp;usg=__yTsUEjYs4mRJn75BXVSzFMuqU7Q=&amp;h=1360&amp;w=2048&amp;sz=2471&amp;hl=en&amp;start=5&amp;tbnid=4cY47q5r11qhGM:&amp;tbnh=100&amp;tbnw=150&amp;prev=/images?q=forepaw&amp;gbv=2&amp;hl=e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farm1.static.flickr.com/56/171846585_eddff70243.jpg?v=0&amp;imgrefurl=http://www.flickr.com/photos/jocelyne_h/171846585/&amp;usg=__9VTWQzVFwOKwPNBzXy_sWRZsWuk=&amp;h=435&amp;w=500&amp;sz=177&amp;hl=en&amp;start=112&amp;tbnid=mSCoK6CWNLukNM:&amp;tbnh=113&amp;tbnw=130&amp;prev=/images?q=forepaw&amp;start=100&amp;gbv=2&amp;ndsp=20&amp;hl=en&amp;sa=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static.howstuffworks.com/gif/willow/koala-info0.gif&amp;imgrefurl=http://animals.howstuffworks.com/mammals/koala-info.htm&amp;usg=__HU0MSwPePl5BS8228-hRRdfiZS4=&amp;h=300&amp;w=261&amp;sz=56&amp;hl=en&amp;start=114&amp;tbnid=fu1ix87N6BU78M:&amp;tbnh=116&amp;tbnw=101&amp;prev=/images?q=forepaw&amp;start=100&amp;gbv=2&amp;ndsp=20&amp;hl=en&amp;sa=N" TargetMode="External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dbugger.files.wordpress.com/2006/10/common_bed_bug_lifecycle.jpg&amp;imgrefurl=http://bedbugger.com/photos-of-bed-bugs-and-signs-of-bed-bugs/&amp;usg=__bhAaW0oWJ75_GOga6wPO1WTJ2yw=&amp;h=1200&amp;w=1170&amp;sz=768&amp;hl=en&amp;start=23&amp;tbnid=7-IuTpmXdFItaM:&amp;tbnh=150&amp;tbnw=146&amp;prev=/images?q=life+stage&amp;start=20&amp;gbv=2&amp;ndsp=20&amp;hl=en&amp;sa=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arborday.org/trees/graphics/tls-characters.jpg&amp;imgrefurl=http://www.arborday.org/trees/lifestages/&amp;usg=__36DUdn4F51d-cuRhwQKrAVKYCKw=&amp;h=200&amp;w=400&amp;sz=19&amp;hl=en&amp;start=4&amp;tbnid=PC9RrL52P37tiM:&amp;tbnh=62&amp;tbnw=124&amp;prev=/images?q=life+stage&amp;gbv=2&amp;ndsp=20&amp;hl=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Frogs.htm" TargetMode="External"/><Relationship Id="rId2" Type="http://schemas.openxmlformats.org/officeDocument/2006/relationships/hyperlink" Target="http://www.scottsboro.org/~flewis/SF%20Reading%20Street/spellmaster/Frogs/jigword2.html" TargetMode="External"/><Relationship Id="rId3" Type="http://schemas.openxmlformats.org/officeDocument/2006/relationships/hyperlink" Target="http://www.scottsboro.org/~flewis/SF%20Reading%20Street/spellmaster/Frogs/matchword2.html" TargetMode="External"/><Relationship Id="rId4" Type="http://schemas.openxmlformats.org/officeDocument/2006/relationships/hyperlink" Target="http://www.scottsboro.org/~flewis/SF%20Reading%20Street/spellmaster/Frogs/speedword2.html" TargetMode="External"/><Relationship Id="rId5" Type="http://schemas.openxmlformats.org/officeDocument/2006/relationships/hyperlink" Target="http://www.scottsboro.org/~flewis/SF%20Reading%20Street/spellmaster/Frogs/wordweb.html" TargetMode="External"/><Relationship Id="rId6" Type="http://schemas.openxmlformats.org/officeDocument/2006/relationships/hyperlink" Target="http://www.scottsboro.org/~flewis/SF%20Reading%20Street/spellmaster/Frogs/wordweb.html" TargetMode="External"/><Relationship Id="rId7" Type="http://schemas.openxmlformats.org/officeDocument/2006/relationships/hyperlink" Target="http://www.spellingcity.com/index.php?option=com_spellcity&amp;task=viewList&amp;listId=825573" TargetMode="External"/><Relationship Id="rId8" Type="http://schemas.openxmlformats.org/officeDocument/2006/relationships/hyperlink" Target="http://www.spellingcity.com/index.php?option=com_spellcity&amp;task=viewList&amp;listId=825576" TargetMode="External"/><Relationship Id="rId9" Type="http://schemas.openxmlformats.org/officeDocument/2006/relationships/hyperlink" Target="http://www.scottsboro.org/~flewis/SF%20Reading%20Street/spellmaster/Frogs%20Spelling%20Words/speedword2.html" TargetMode="External"/><Relationship Id="rId10" Type="http://schemas.openxmlformats.org/officeDocument/2006/relationships/hyperlink" Target="http://www.scottsboro.org/~flewis/SF%20Reading%20Street/spellmaster/Frogs%20Spelling%20Words/wordweb.html" TargetMode="External"/><Relationship Id="rId11" Type="http://schemas.openxmlformats.org/officeDocument/2006/relationships/hyperlink" Target="http://www.quia.com/rr/233107.html" TargetMode="External"/><Relationship Id="rId12" Type="http://schemas.openxmlformats.org/officeDocument/2006/relationships/hyperlink" Target="http://www.spellingcity.com/index.php?option=com_spellcity&amp;Itemid=122&amp;task=viewList&amp;listId=354271" TargetMode="External"/><Relationship Id="rId13" Type="http://schemas.openxmlformats.org/officeDocument/2006/relationships/hyperlink" Target="http://www.spellingcity.com/index.php?option=com_spellcity&amp;task=viewList&amp;listId=825581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5.xml"/><Relationship Id="rId3" Type="http://schemas.openxmlformats.org/officeDocument/2006/relationships/slide" Target="slide103.xml"/><Relationship Id="rId4" Type="http://schemas.openxmlformats.org/officeDocument/2006/relationships/slide" Target="slide124.xml"/><Relationship Id="rId5" Type="http://schemas.openxmlformats.org/officeDocument/2006/relationships/slide" Target="slide140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staricanconnection.net/imgs/Honeymoons/canopy2.jpg&amp;imgrefurl=http://www.costaricanconnection.net/Honeymoons/costaricahoneymooninheaven.html&amp;usg=__LtVF_DmYe9Bt1O445zwa3UIz4d0=&amp;h=960&amp;w=1280&amp;sz=295&amp;hl=en&amp;start=1&amp;tbnid=uNp_qqC4fFYanM:&amp;tbnh=113&amp;tbnw=150&amp;prev=/images?q=canopy&amp;gbv=2&amp;hl=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backyardcity.com/images/PPS/Universal-Canopy-1013.jpg&amp;imgrefurl=http://www.backyardcity.com/shade/canopies/PPS-Universal-Canopy-1013.htm&amp;usg=__vxNa3LHmmFg6mfq6e7n8rSowZDQ=&amp;h=409&amp;w=600&amp;sz=66&amp;hl=en&amp;start=3&amp;tbnid=0AYu0_V1f3V11M:&amp;tbnh=92&amp;tbnw=135&amp;prev=/images?q=canopy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germes-online.com/direct/dbimage/50268647/Square_Bed_Canopy_with_Rose.jpg&amp;imgrefurl=http://www.germes-online.com/catalog/26/844/308361/sell_fly_swatter_jc_e07we_.html&amp;usg=__zRMndCurdobFTlPnkDrBeS7zazY=&amp;h=360&amp;w=360&amp;sz=14&amp;hl=en&amp;start=8&amp;tbnid=8BofuLoC6Wq9yM:&amp;tbnh=121&amp;tbnw=121&amp;prev=/images?q=canopy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global-b2b-network.com/direct/dbimage/50280896/Canopy.jpg&amp;imgrefurl=http://www.global-b2b-network.com/b2b/26/40/822/awning_and_canopy.html&amp;usg=__7yaUGVr1hQwKllOivuZsNuJy3Wc=&amp;h=360&amp;w=360&amp;sz=18&amp;hl=en&amp;start=13&amp;tbnid=tqRNmTRC6AwmcM:&amp;tbnh=121&amp;tbnw=121&amp;prev=/images?q=canopy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valleycanvas.com/images/editor/roof_mounted_beam_canopy.jpg&amp;imgrefurl=http://www.valleycanvas.com/?catID=2&amp;pageID=24&amp;location=residential&amp;usg=__y8ddbLiKEqM6GpLJWCc8KfiF63w=&amp;h=375&amp;w=500&amp;sz=76&amp;hl=en&amp;start=29&amp;tbnid=prM2cEZtstJlfM:&amp;tbnh=98&amp;tbnw=130&amp;prev=/images?q=canopy&amp;start=20&amp;gbv=2&amp;ndsp=20&amp;hl=en&amp;sa=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www.ablecanopies.co.uk/images/entrance_canopy.jpg&amp;imgrefurl=http://www.ablecanopies.co.uk/entrance_canopies.html&amp;usg=__WZU3AfrjozbIREBhQm26tNSJBXs=&amp;h=350&amp;w=480&amp;sz=35&amp;hl=en&amp;start=71&amp;tbnid=9XVhN5WpM4ozYM:&amp;tbnh=94&amp;tbnw=129&amp;prev=/images?q=canopy&amp;start=60&amp;gbv=2&amp;ndsp=20&amp;hl=en&amp;sa=N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2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z.about.com/d/gonyc/1/0/w/B/turtle_pond.jpg&amp;imgrefurl=http://gonyc.about.com/od/photogalleries/ss/central_park_10.htm&amp;usg=__7qlLbbagzSnvG3LtHWRSiLYtH6g=&amp;h=480&amp;w=640&amp;sz=155&amp;hl=en&amp;start=10&amp;tbnid=vTLGq0prRhh26M:&amp;tbnh=103&amp;tbnw=137&amp;prev=/images?q=pond&amp;gbv=2&amp;hl=en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www.dinternursery.ca/PondMay.JPG&amp;imgrefurl=http://www.dinternursery.ca/PondProducts.htm&amp;usg=__64phXMoEI8FKpPg0c3g3tyzw0iA=&amp;h=412&amp;w=300&amp;sz=50&amp;hl=en&amp;start=14&amp;tbnid=M_M-if6DXLKuSM:&amp;tbnh=125&amp;tbnw=91&amp;prev=/images?q=pond&amp;gbv=2&amp;hl=e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www.freefoto.com/images/1212/05/1212_05_9---Walden-Pond--Massachusetts_web.jpg&amp;imgrefurl=http://www.freefoto.com/preview/1212-05-9?ffid=1212-05-9&amp;usg=__zXJWoOLDqqTAQOPHWBtYwvgaP9M=&amp;h=400&amp;w=600&amp;sz=142&amp;hl=en&amp;start=17&amp;tbnid=cedurorsBWORxM:&amp;tbnh=90&amp;tbnw=135&amp;prev=/images?q=pond&amp;gbv=2&amp;hl=e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m/imgres?imgurl=http://www.doghouseproperties.com/uploads/20071004131121984.catfish%2520pond.JPG&amp;imgrefurl=http://www.doghouseproperties.com/propertydetail/00000175&amp;usg=__A05rteB6qha3cdd4XVBRmAUYpbI=&amp;h=537&amp;w=716&amp;sz=184&amp;hl=en&amp;start=3&amp;tbnid=9Pu7mxQXIC56WM:&amp;tbnh=105&amp;tbnw=140&amp;prev=/images?q=catfishpond&amp;gbv=2&amp;hl=e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floridata.com/wallpaper/jpg/crossvine800.jpg&amp;imgrefurl=http://www.floridata.com/tracks/GardenersJournal03/Journal03_03.cfm&amp;usg=__eo4bRMNDkG8OvnSB7uNC9-i5X28=&amp;h=600&amp;w=800&amp;sz=131&amp;hl=en&amp;start=35&amp;tbnid=WHJ9zU__dfIesM:&amp;tbnh=107&amp;tbnw=143&amp;prev=/images?q=catfishpond&amp;start=20&amp;gbv=2&amp;ndsp=20&amp;hl=en&amp;sa=N" TargetMode="External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addell.ci.manchester.ct.us/nature-center/images/insects/1999us_insects.jpg&amp;imgrefurl=http://waddell.ci.manchester.ct.us/nature-center/leaflitter-and-pondlife.html&amp;usg=__mxG7JJpwMmHSDDCA_znHv_rMLsE=&amp;h=533&amp;w=500&amp;sz=197&amp;hl=en&amp;start=12&amp;tbnid=Hk-NkJaPvwe7VM:&amp;tbnh=132&amp;tbnw=124&amp;prev=/images?q=insects&amp;gbv=2&amp;ndsp=20&amp;hl=en&amp;sa=N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s.google.com/imgres?imgurl=http://visual.merriam-webster.com/images/animal-kingdom/insects-arachnids/examples-insects_4.jpg&amp;imgrefurl=http://visual.merriam-webster.com/animal-kingdom/insects-arachnids/examples-insects_4.php&amp;usg=__agCQodVxbNqdgR7P3PpCRWrOa98=&amp;h=384&amp;w=550&amp;sz=75&amp;hl=en&amp;start=4&amp;tbnid=sjSbObc2Jhq5IM:&amp;tbnh=93&amp;tbnw=133&amp;prev=/images?q=insects&amp;gbv=2&amp;ndsp=20&amp;hl=en&amp;sa=N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/imgres?imgurl=http://www.bestoday.com.au/billylids/images/insects.jpg&amp;imgrefurl=http://www.bestoday.com.au/billylids/archives/000486living_creatures.php&amp;usg=__Sm7qYRFk-Uvd_765dSsaouuhupE=&amp;h=287&amp;w=421&amp;sz=53&amp;hl=en&amp;start=5&amp;tbnid=LIImzpKn7at0QM:&amp;tbnh=85&amp;tbnw=125&amp;prev=/images?q=insects&amp;gbv=2&amp;ndsp=20&amp;hl=en&amp;sa=N" TargetMode="Externa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ww.virtualmedicalcentre.com/uploads/VMC/DiseaseImages/767_skin_section.jpg&amp;imgrefurl=http://www.virtualmedicalcentre.com/anatomy.asp?sid=2&amp;usg=__H_7pmm4SxG34Is303qf13XwVeTk=&amp;h=505&amp;w=550&amp;sz=46&amp;hl=en&amp;start=64&amp;tbnid=knyIH4wRs4sk-M:&amp;tbnh=122&amp;tbnw=133&amp;prev=/images?q=skin&amp;start=60&amp;gbv=2&amp;ndsp=20&amp;hl=en&amp;sa=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infovisual.info/03/photo/skin.jpg&amp;imgrefurl=http://www.infovisual.info/03/photo/skin.html&amp;usg=__iRobdkixoOGf0EVrL2tq4eKYQWU=&amp;h=768&amp;w=768&amp;sz=96&amp;hl=en&amp;start=81&amp;tbnid=afZqWiB6uEGalM:&amp;tbnh=142&amp;tbnw=142&amp;prev=/images?q=skin&amp;start=80&amp;gbv=2&amp;ndsp=20&amp;hl=en&amp;sa=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dermaderma.com/wp-content/uploads/2007/11/personal-skin-care.jpg&amp;imgrefurl=http://www.entertainmentandstyle-gossip.com/&amp;usg=__-toWeUpno8v7TUrRfHntmOE2210=&amp;h=375&amp;w=250&amp;sz=15&amp;hl=en&amp;start=116&amp;tbnid=2QsFCD31R3CnhM:&amp;tbnh=122&amp;tbnw=81&amp;prev=/images?q=skin&amp;start=100&amp;gbv=2&amp;ndsp=20&amp;hl=en&amp;sa=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biology.ucf.edu/~logiudice/zoo3713/Files/image152.gif&amp;imgrefurl=http://biology.ucf.edu/~logiudice/zoo3713/ZOO%25203713%2520Overheads.htm&amp;usg=__c_3KN1cKS4LahOoikM73805RfzY=&amp;h=157&amp;w=263&amp;sz=19&amp;hl=en&amp;start=13&amp;tbnid=Pn0d5o1bK8uECM:&amp;tbnh=67&amp;tbnw=112&amp;prev=/images?q=frog+skin&amp;gbv=2&amp;hl=en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farm1.static.flickr.com/187/435311607_5e2a2b1809.jpg?v=0&amp;imgrefurl=http://flickr.com/photos/98474349@N00/435311607&amp;usg=__3QvsuFdU-SwsaufM5pVa49phf0s=&amp;h=361&amp;w=500&amp;sz=128&amp;hl=en&amp;start=20&amp;tbnid=xMXPME7qUIsUhM:&amp;tbnh=94&amp;tbnw=130&amp;prev=/images?q=frog+skin&amp;gbv=2&amp;hl=en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i.pbase.com/v3/06/601206/1/50259919.Frogskin.jpg&amp;imgrefurl=http://www.pbase.com/nicmalone/image/50259919&amp;usg=__48FNPXRAh5rZWlRLNA85Qm7Q-sc=&amp;h=600&amp;w=400&amp;sz=192&amp;hl=en&amp;start=35&amp;tbnid=Bg_ilaW6K4FrsM:&amp;tbnh=135&amp;tbnw=90&amp;prev=/images?q=frog+skin&amp;start=20&amp;gbv=2&amp;ndsp=20&amp;hl=en&amp;sa=N" TargetMode="External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hyperlink" Target="http://images.google.com/imgres?imgurl=http://www.thematzats.com/snakes/images/shed.jpg&amp;imgrefurl=http://www.thematzats.com/snakes/life4.htm&amp;usg=__ZfjZmO3HkaXIUIJKE7d4jEY_NYk=&amp;h=476&amp;w=476&amp;sz=29&amp;hl=en&amp;start=4&amp;tbnid=CphfW_qumt80sM:&amp;tbnh=129&amp;tbnw=129&amp;prev=/images?q=shed+skin&amp;gbv=2&amp;hl=en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m/imgres?imgurl=http://www.amisk.ca/MonarchProject/ShedSkin_01.jpg&amp;imgrefurl=http://www.amisk.ca/MonarchProject/index.html&amp;usg=__kbU9Qw-pS4O8yCyhn9UsJOrOJpM=&amp;h=307&amp;w=470&amp;sz=23&amp;hl=en&amp;start=13&amp;tbnid=bme-RwkmOD3gOM:&amp;tbnh=84&amp;tbnw=129&amp;prev=/images?q=shed+skin&amp;gbv=2&amp;hl=en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m/imgres?imgurl=http://www.snakesandfrogs.com/scra/snakes/images/ekingshed.jpg&amp;imgrefurl=http://www.snakesandfrogs.com/scra/snakes/chain.htm&amp;usg=__UeoOjIuuYoYoAIGJVfLWPCYF5S0=&amp;h=737&amp;w=1200&amp;sz=138&amp;hl=en&amp;start=20&amp;tbnid=OOiZ8O8_l6vYjM:&amp;tbnh=92&amp;tbnw=150&amp;prev=/images?q=shed+skin&amp;gbv=2&amp;hl=en" TargetMode="External"/><Relationship Id="rId7" Type="http://schemas.openxmlformats.org/officeDocument/2006/relationships/image" Target="../media/image28.jpeg"/><Relationship Id="rId8" Type="http://schemas.openxmlformats.org/officeDocument/2006/relationships/hyperlink" Target="http://images.google.com/imgres?imgurl=http://aqualandpetsplus.com/Lizard841.jpg&amp;imgrefurl=http://aqualandpetsplus.com/Lizards,%2520Misc%2520Vii.htm&amp;usg=__9OEtqhf10-kewpMxXkQ_5cW5qKg=&amp;h=317&amp;w=478&amp;sz=33&amp;hl=en&amp;start=32&amp;tbnid=-fSe5XXzvICvYM:&amp;tbnh=86&amp;tbnw=129&amp;prev=/images?q=shed+skin&amp;start=20&amp;gbv=2&amp;ndsp=20&amp;hl=en&amp;sa=N" TargetMode="External"/><Relationship Id="rId9" Type="http://schemas.openxmlformats.org/officeDocument/2006/relationships/image" Target="../media/image29.jpeg"/><Relationship Id="rId10" Type="http://schemas.openxmlformats.org/officeDocument/2006/relationships/hyperlink" Target="http://images.google.com/imgres?imgurl=http://farm3.static.flickr.com/2093/2127009252_a737dc72ab.jpg?v=1198248575&amp;imgrefurl=http://flickr.com/photos/choowiewookie/2127009252/&amp;usg=__i3m4xPisF8ibgl3fGjpSmq1r49o=&amp;h=370&amp;w=500&amp;sz=89&amp;hl=en&amp;start=35&amp;tbnid=dc325bMZnRysPM:&amp;tbnh=96&amp;tbnw=130&amp;prev=/images?q=shed+skin&amp;start=20&amp;gbv=2&amp;ndsp=20&amp;hl=en&amp;sa=N" TargetMode="External"/><Relationship Id="rId11" Type="http://schemas.openxmlformats.org/officeDocument/2006/relationships/image" Target="../media/image30.jpeg"/><Relationship Id="rId12" Type="http://schemas.openxmlformats.org/officeDocument/2006/relationships/hyperlink" Target="http://images.google.com/imgres?imgurl=http://www.saltthesandbox.org/cicada_hunt/LiveNymph0702.jpg&amp;imgrefurl=http://www.saltthesandbox.org/cicada_hunt/PeriodicalHunt2007.htm&amp;usg=__sq3GrQRre2dOkX2BX2Ri3wnZ0JU=&amp;h=384&amp;w=440&amp;sz=38&amp;hl=en&amp;start=121&amp;tbnid=T4wXuFE480z7QM:&amp;tbnh=111&amp;tbnw=127&amp;prev=/images?q=shed+skin&amp;start=120&amp;gbv=2&amp;ndsp=20&amp;hl=en&amp;sa=N" TargetMode="External"/><Relationship Id="rId13" Type="http://schemas.openxmlformats.org/officeDocument/2006/relationships/image" Target="../media/image31.jpeg"/><Relationship Id="rId14" Type="http://schemas.openxmlformats.org/officeDocument/2006/relationships/hyperlink" Target="http://members.aol.com/chris420529/shedding.JPG" TargetMode="External"/><Relationship Id="rId15" Type="http://schemas.openxmlformats.org/officeDocument/2006/relationships/image" Target="../media/image32.jpeg"/><Relationship Id="rId16" Type="http://schemas.openxmlformats.org/officeDocument/2006/relationships/hyperlink" Target="http://images.google.com/imgres?imgurl=http://dj003.k12.sd.us/images/frog%2520dissection/frog_life_cycle.gif&amp;imgrefurl=http://dj003.k12.sd.us/SCHOOL%2520NOTES/chapter_12.htm&amp;usg=__kokUlz21KozT6aRtIvRnrWG0ttM=&amp;h=301&amp;w=380&amp;sz=13&amp;hl=en&amp;start=7&amp;tbnid=FdSRZez6kdz4lM:&amp;tbnh=97&amp;tbnw=123&amp;prev=/images?q=tadpole+shedding+skin&amp;gbv=2&amp;hl=en" TargetMode="External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hyperlink" Target="http://images.google.com/imgres?imgurl=http://www.tasi.ac.uk/images/flickr-frogs.jpg&amp;imgrefurl=http://www.tasi.ac.uk/advice/using/flickr-organising.html&amp;usg=__mcdpgTaVIaEMwWq5yhvFOt8AXW4=&amp;h=359&amp;w=478&amp;sz=71&amp;hl=en&amp;start=10&amp;tbnid=RMzMUmlguJ9YYM:&amp;tbnh=97&amp;tbnw=129&amp;prev=/images?q=frog+spawning&amp;gbv=2&amp;hl=en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google.com/imgres?imgurl=http://pro.corbis.com/images/EC001028.jpg?size=67&amp;uid=%257BBB2E7830-EE43-4ECC-B881-F285A796E0FB%257D&amp;imgrefurl=http://pro.corbis.com/search/Enlargement.aspx?CID=isg&amp;mediauid=%257BBB2E7830-EE43-4ECC-B881-F285A796E0FB%257D&amp;usg=__Cw_XoSdpXAzllNgwD6BWSNm_-Xc=&amp;h=433&amp;w=640&amp;sz=91&amp;hl=en&amp;start=13&amp;tbnid=iOSS4CjVgXSytM:&amp;tbnh=93&amp;tbnw=137&amp;prev=/images?q=frog+spawning&amp;gbv=2&amp;hl=en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images.google.com/imgres?imgurl=http://www.wherelightmeetsdark.com/images/pagemaster/sandpaper_2.jpg&amp;imgrefurl=http://www.wherelightmeetsdark.com/index.php?module=pagemaster&amp;PAGE_id=60&amp;PAGE_user_op=view_page&amp;usg=__4kYXa2V0meu2j9gu8OpNOvLQXvI=&amp;h=765&amp;w=532&amp;sz=48&amp;hl=en&amp;start=16&amp;tbnid=yADSM415U_TFvM:&amp;tbnh=142&amp;tbnw=99&amp;prev=/images?q=frog+spawning&amp;gbv=2&amp;hl=en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images.google.com/imgres?imgurl=http://bp3.blogger.com/_aiPEj8evWN8/R9xaOTjw0BI/AAAAAAAAAvU/6PWV-E4E_HI/s400/frog+spawn.jpg&amp;imgrefurl=http://flourishlife.blogspot.com/2008/03/frog-spawn.html&amp;usg=__c17GlsPoklxHNCwLqRPNNWv37LA=&amp;h=304&amp;w=400&amp;sz=32&amp;hl=en&amp;start=21&amp;tbnid=dvDI5U2IRxa1iM:&amp;tbnh=94&amp;tbnw=124&amp;prev=/images?q=frog+spawning&amp;start=20&amp;gbv=2&amp;ndsp=20&amp;hl=en&amp;sa=N" TargetMode="External"/><Relationship Id="rId9" Type="http://schemas.openxmlformats.org/officeDocument/2006/relationships/image" Target="../media/image37.jpeg"/><Relationship Id="rId10" Type="http://schemas.openxmlformats.org/officeDocument/2006/relationships/hyperlink" Target="http://images.google.com/imgres?imgurl=http://www.new-forest.tv/Frog%2520Spawn%25202007%2520002.jpg&amp;imgrefurl=http://www.new-forest.tv/February_-_The_Frogs_Are_Taking_Over!.html&amp;usg=__HO5qXQe1LrOktvx4bkrXeOIcMu0=&amp;h=960&amp;w=1280&amp;sz=321&amp;hl=en&amp;start=25&amp;tbnid=IyaDtwm854VPqM:&amp;tbnh=113&amp;tbnw=150&amp;prev=/images?q=frog+spawning&amp;start=20&amp;gbv=2&amp;ndsp=20&amp;hl=en&amp;sa=N" TargetMode="External"/><Relationship Id="rId11" Type="http://schemas.openxmlformats.org/officeDocument/2006/relationships/image" Target="../media/image38.jpeg"/><Relationship Id="rId12" Type="http://schemas.openxmlformats.org/officeDocument/2006/relationships/hyperlink" Target="http://images.google.com/imgres?imgurl=http://bp1.blogger.com/_sEANHwQJN-4/R_QcSIertyI/AAAAAAAABsM/K2_ileCd3E0/s400/Frog+spawn.jpg&amp;imgrefurl=http://merseawildlife.blogspot.com/2008/04/spawn-bucket.html&amp;usg=__EXaE8DmLCqXE5Y3colMzL0tZUrA=&amp;h=300&amp;w=400&amp;sz=32&amp;hl=en&amp;start=30&amp;tbnid=DOGR-AMU5fR6-M:&amp;tbnh=93&amp;tbnw=124&amp;prev=/images?q=frog+spawning&amp;start=20&amp;gbv=2&amp;ndsp=20&amp;hl=en&amp;sa=N" TargetMode="External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How do animals change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s they grow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4" descr="Frog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2003400"/>
            <a:ext cx="55627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learn more about how frogs changes as they get o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your favorite animal and tell why it's special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more about Turtle.  Her life is not very peaceful.  She has to be careful.  Being a powerful swimmer helps!  What else can turtles do well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479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more about Turtle.  Her life is not very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eace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She has to b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care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Being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owerful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wimmer helps!  What else can turtles do well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you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hthongs 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x –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phr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for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 - 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means to go from place to place looking for something, usually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Bear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the woods looking for ber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Rabb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the vegetable g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forepaw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 – p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one of the front feet of an animal with four pa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dog scratched at the door with 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cat played with a ball of yarn between it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forepaw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forepaw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7" descr="Alligator_Left_Forepa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171846585_eddff70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209680" cy="1920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koala-info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4880" y="1905120"/>
            <a:ext cx="2255760" cy="2590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polarbearfacing"/>
          <p:cNvPicPr/>
          <p:nvPr/>
        </p:nvPicPr>
        <p:blipFill>
          <a:blip r:embed="rId7"/>
          <a:stretch/>
        </p:blipFill>
        <p:spPr>
          <a:xfrm>
            <a:off x="838080" y="3941640"/>
            <a:ext cx="2514600" cy="2192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Polydactyl-bengal-snowshoe"/>
          <p:cNvPicPr/>
          <p:nvPr/>
        </p:nvPicPr>
        <p:blipFill>
          <a:blip r:embed="rId8"/>
          <a:stretch/>
        </p:blipFill>
        <p:spPr>
          <a:xfrm>
            <a:off x="3733920" y="4038480"/>
            <a:ext cx="2666880" cy="2090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08987"/>
          <p:cNvPicPr/>
          <p:nvPr/>
        </p:nvPicPr>
        <p:blipFill>
          <a:blip r:embed="rId9"/>
          <a:stretch/>
        </p:blipFill>
        <p:spPr>
          <a:xfrm>
            <a:off x="7010280" y="4606920"/>
            <a:ext cx="18478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wels oo, 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   -   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ese words because you know that the vowels oo and u can stand for the sound /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wels oo, 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39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99ff66"/>
                </a:solidFill>
                <a:latin typeface="Arial Black"/>
              </a:rPr>
              <a:t>crawls, insects, pond, powerful, shed, skin, wonderful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many insects in your yard, is it a good idea to keep frogs in your yard to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rainbow that appears after a rainstorm wonderful to s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frog that has shed its tadpole skin and lips still have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99ff66"/>
                </a:solidFill>
                <a:latin typeface="Arial Black"/>
              </a:rPr>
              <a:t>crawls, insects, pond, powerful, shed, skin, wonderful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touch a frog’s sk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pond very d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animal crawls does it leap quickly through the ai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someone with powerful arms have problems lifting a heavy ro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ffix - f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ffix –ful means “full o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ful – full of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– full of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ful – full of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– full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– full of w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frog jumped on the g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frog jumped on the gr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max water the flou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Max water the flow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___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appearanc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 – pear - 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the way a person, an animal, or a thing l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n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can also be the way something seems to look or to 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child’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as clean and n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performer gave th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appearanc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at juggling was eas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istance Spotty can jump is ___ than the distance Jumpy can jum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Add –er or –est to these adjectives that compare to complete these sentence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ump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3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ib-It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5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potty the Fro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4 inches l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b-It jump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stance of all three fro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istance Spotty can jump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the distance Jumpy can jum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the life cycle of another kind of animal—a grassh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edn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diary entry describing the mos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 day of their lives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how grasshoppers grow and change.  Grasshoppers hide their eggs in the ground.  What animal would you like to find out abou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37160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b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how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asshoppers grow and change.  Grasshoppers hide their eggs in th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ground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What animal would you like to fin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bou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phr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144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4876920" y="1219320"/>
          <a:ext cx="3558960" cy="5260680"/>
        </p:xfrm>
        <a:graphic>
          <a:graphicData uri="http://schemas.openxmlformats.org/drawingml/2006/table">
            <a:tbl>
              <a:tblPr/>
              <a:tblGrid>
                <a:gridCol w="355896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 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said, “Put the broken candle on the tabl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 put the baby in the cradle by the trundle 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set a good example so I will donate this little b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uild a fence around the tomato pl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straight to my room, but I couldn’t find my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st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a step or time in a person’s or animal’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oddlers go through 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hen they always say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Puppies go through 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stag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when they like to chew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"/>
                <a:ea typeface="Arial"/>
              </a:rPr>
              <a:t>trundle b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1361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ap-1001-2731-twin-bed-trundle-box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om Egg to Egg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ed is tallest than lyn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Jed is taller than Lyn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birds flue s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birds flew sout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143000" y="1905120"/>
          <a:ext cx="7162920" cy="390528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eaking &amp; Listening: Giving a Demons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aker used both words and actions to show or explain to others how to do something in a demonst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often uses props to show viewers exactly what must be done in each step of th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should carefully describe the order in which the steps must be comple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iving a Demons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905120"/>
          <a:ext cx="8388360" cy="4147920"/>
        </p:xfrm>
        <a:graphic>
          <a:graphicData uri="http://schemas.openxmlformats.org/drawingml/2006/table">
            <a:tbl>
              <a:tblPr/>
              <a:tblGrid>
                <a:gridCol w="4194000"/>
                <a:gridCol w="419436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isten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rop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eye contact with the listener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ak in a logical sequenc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Sit quiet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Note the order in which the steps should be complete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:  text to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nother animal that changes as it gets older.  Tomorrow we will learn more about the life cycle of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ursday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child who changes appearance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stag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523520"/>
            <a:ext cx="8007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ommon_bed_bug_lifecy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81080"/>
            <a:ext cx="3708360" cy="3810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tls-charact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895480"/>
            <a:ext cx="415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urtles, frogs, otters, and grasshoppers.  All of these animals change as they grow.  What animal changes the most as it grow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666880" y="1143000"/>
          <a:ext cx="3559320" cy="5261040"/>
        </p:xfrm>
        <a:graphic>
          <a:graphicData uri="http://schemas.openxmlformats.org/drawingml/2006/table">
            <a:tbl>
              <a:tblPr/>
              <a:tblGrid>
                <a:gridCol w="35593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 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at clown pout and frow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ut the brown couch in her ho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lass will walk around down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cloud over the tower looks like an 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971800" y="1295280"/>
          <a:ext cx="3352680" cy="51627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crawls, skin, wonderful, insects, powerful, shed, po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6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what a snake does when it loses its skin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word for strong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 small body of water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word for fantastic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way a baby moves on its hands and knees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nother name for bugs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ver the outside of your body.  What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m bought a pound of apl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Mom bought a pound of appl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bill find the cr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Bill find the crow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gram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agram is a picture with labeled parts that can provide importa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cience and social studies textbooks has many diagrams to help you learn information eas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in your books and find examples of diagrams and explain what they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transform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 -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omething, you chang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gardener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drab backyard into a beautiful g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e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transform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basement into a great play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Week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Talk About Our Changing World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the sta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n insect or fro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99cc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Friday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Geographic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s of a Tadpo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APTPlus Videos 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(password required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hibians, Fish, and Reptiles (26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Life Cycles (14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ior Zoologist: Fish, Amphibians, and Reptiles (16:0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Faces, Animal Places (18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Profiles: Frogs (10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hibians: Amazing Animals (22: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gic School Bus Hops Home (26:1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Around Us: Amphibians: What Are They? (20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45840" y="2523960"/>
            <a:ext cx="65912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52480" y="1905120"/>
          <a:ext cx="5715000" cy="389232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52480" y="1905120"/>
          <a:ext cx="5715000" cy="40226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imal Names T-ch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52480" y="1905120"/>
          <a:ext cx="5715000" cy="40226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aby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ult Animal N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p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know about reading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ll learn another sound for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 for the sound in 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line Gam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371600"/>
          <a:ext cx="4267440" cy="525780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&amp; Amaz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Arcade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Jig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Match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ord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Spelling City: vo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Spelling City: amaz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952880" y="1371600"/>
          <a:ext cx="3787920" cy="5257800"/>
        </p:xfrm>
        <a:graphic>
          <a:graphicData uri="http://schemas.openxmlformats.org/drawingml/2006/table">
            <a:tbl>
              <a:tblPr/>
              <a:tblGrid>
                <a:gridCol w="378792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Speed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Word W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Quia G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2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Spelling 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ound-Spelling Card"/>
          <p:cNvPicPr/>
          <p:nvPr/>
        </p:nvPicPr>
        <p:blipFill>
          <a:blip r:embed="rId1"/>
          <a:stretch/>
        </p:blipFill>
        <p:spPr>
          <a:xfrm>
            <a:off x="2819520" y="380880"/>
            <a:ext cx="3832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lend these words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16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219320"/>
          <a:ext cx="3352680" cy="51624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1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c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w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76920" y="1219320"/>
          <a:ext cx="3558960" cy="5260680"/>
        </p:xfrm>
        <a:graphic>
          <a:graphicData uri="http://schemas.openxmlformats.org/drawingml/2006/table">
            <a:tbl>
              <a:tblPr/>
              <a:tblGrid>
                <a:gridCol w="355896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s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o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p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rting 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rown, snow, glow, cloud, down, growl, flown, ouch, count, crown, throw, round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905120"/>
          <a:ext cx="8007480" cy="289548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wl (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ce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w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16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– dime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79680" y="2046240"/>
          <a:ext cx="6359400" cy="30718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– flex 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79680" y="2046240"/>
          <a:ext cx="6359400" cy="37306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oot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79680" y="2046240"/>
          <a:ext cx="6359400" cy="251460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743200" y="1371600"/>
          <a:ext cx="3733920" cy="523080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n’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riends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79680" y="2046240"/>
          <a:ext cx="6359400" cy="251460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Verdana"/>
              </a:rPr>
              <a:t>Word Family Word - fun </a:t>
            </a:r>
            <a:br>
              <a:rPr sz="4400"/>
            </a:br>
            <a:r>
              <a:rPr b="0" lang="en-US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79680" y="2046240"/>
          <a:ext cx="6359400" cy="43894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re &amp; Contrast &amp; Graphic Organiz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Quilt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Abigail used the qui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the animals in the attic use the quilt in the same 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pare and contrast things, you tell how they are alike and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aphic organizer helps you organize information.  The chart can help you keep track of how things are alike and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Student Pages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839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bride wore a white gou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The bride wore a white g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n rode a bus dontow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an rode a bus downtow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djective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r to an adjective to compare two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–est to compare three or more persons, places, or th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ick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mpares two things—the chick and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gg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th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Sm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mpares three things—the egg, the chick, and the 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faster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fastest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ue whale is the longest animal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o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zeb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eetah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fast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n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ue whale is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imal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longer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taller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woods are the tallest trees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lphins ar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n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porpo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ine tree is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an oak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woods are the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tall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rees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85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Big Question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How do animals change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s they grow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jectives that Compare</a:t>
            </a:r>
            <a:br>
              <a:rPr sz="4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ill in the char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1905120"/>
          <a:ext cx="8007480" cy="27050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 t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l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ap Up Your Da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 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 selection about an animal that grows and changes as it gets older—a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2362320"/>
          <a:ext cx="6096240" cy="3822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explaining how you would change your bedroom if you could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2362320"/>
          <a:ext cx="6096240" cy="3822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explaining how you would change your bedroom if you could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tadpoles.  Tadpoles grow bigger and stronger until they are frogs.  Frogs are the highest jumpers! What else can frogs do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uesd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22860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tadpoles.  Tadpoles grow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igg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trong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til they are frogs.  Frogs are the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highes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jumpers! What else can frogs do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 we will learn abou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thong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u, 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x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–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that Com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  <a:ea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restles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 - 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fee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, you are not able to be still, or you want a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baby wa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n her stro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He becams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after sitting for two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man wa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restless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after doing the same job for ten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 </a:t>
            </a:r>
            <a:br>
              <a:rPr sz="44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3623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ls everywhere start life as babies.  Each animal has a mother and a father.  Over time, the babies grow.  How do animal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pursu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 - 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omething, you follow or cha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Sharks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smaller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 polic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d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the bank rob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She will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pursue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her dream of becoming a do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  <a:ea typeface="Arial"/>
              </a:rPr>
              <a:t>canop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 –o –py 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is a covering above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Emily has a green and white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over her 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There is a kelp 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  <a:ea typeface="Arial"/>
              </a:rPr>
              <a:t>canopy</a:t>
            </a:r>
            <a:r>
              <a:rPr b="0" lang="en-US" sz="3200" spc="-1" strike="noStrike">
                <a:solidFill>
                  <a:srgbClr val="ffffb7"/>
                </a:solidFill>
                <a:latin typeface="Verdana"/>
                <a:ea typeface="Arial"/>
              </a:rPr>
              <a:t> floating on the surface of the oc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  <a:ea typeface="Arial"/>
              </a:rPr>
              <a:t>canop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371600"/>
            <a:ext cx="846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canopy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Universal-Canopy-10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1371600"/>
            <a:ext cx="2657520" cy="1811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quare_Bed_Canopy_with_Ro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8955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Canop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19112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roof_mounted_beam_canop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419904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entrance_can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1371600"/>
            <a:ext cx="2514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1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letters ow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tters ow can stand for /ou/ or /o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 the letters ow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 the letters ow stand for in this wo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1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w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5640" y="1676160"/>
            <a:ext cx="655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u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ou, ow</a:t>
            </a:r>
            <a:br>
              <a:rPr sz="40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Find the words with ou and ow in “The Tadpoles and the Wise, Old Owl.”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52680" y="1676160"/>
            <a:ext cx="54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w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rou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pr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u, 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h, m, n, s, t, w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rog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295280"/>
          <a:ext cx="3200400" cy="523080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Word Famil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886200" y="1295280"/>
          <a:ext cx="4876920" cy="526104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und        cr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ut          sou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wn          mo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         downtow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unt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l    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ounda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nd      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rows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pthongs: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ou, 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walk around the south part of down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se on the ground did not make a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on that crown and the gown with the fl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s </a:t>
            </a:r>
            <a:br>
              <a:rPr sz="44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Monday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23623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ls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verywher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art life as babies.  Each animal has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moth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a </a:t>
                      </a: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ather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Over time, the babies grow.  How do animal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ocabulary Wor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p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mall body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– causing wonder or amaz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– having power or great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 insec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animals with six legs and a three-part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wls – moves slowly on hands and kn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sk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uter covering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sh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o drop or 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pond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6" descr="turtle_p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2743200" cy="2062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PondMa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1212_05_9---Walden-Pond--Massachusetts_web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1905120"/>
            <a:ext cx="2886120" cy="1923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2007100413112198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1054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crossvine8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19920" y="4002120"/>
            <a:ext cx="2819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inse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520" y="1219320"/>
            <a:ext cx="846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7" descr="1999us_insec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19320"/>
            <a:ext cx="4579920" cy="4876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examples-insect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219320"/>
            <a:ext cx="3476520" cy="2430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insec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3733920"/>
            <a:ext cx="34765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ki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160" y="1294920"/>
            <a:ext cx="831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1" descr="767_skin_s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295280"/>
            <a:ext cx="3581280" cy="2795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sk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1295280"/>
            <a:ext cx="1962000" cy="1962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personal-skin-car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1295280"/>
            <a:ext cx="182088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image15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9880" y="4572000"/>
            <a:ext cx="2743200" cy="1946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9" descr="435311607_5e2a2b180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4275000"/>
            <a:ext cx="3124080" cy="2259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502599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81680" y="3429000"/>
            <a:ext cx="2076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h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she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ShedSkin_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1360" y="1905120"/>
            <a:ext cx="1339920" cy="2057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ekingshe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90920" y="1905120"/>
            <a:ext cx="2590560" cy="1589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7" descr="Lizard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971800" y="39625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9" descr="2127009252_a737dc72a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38080" y="4038480"/>
            <a:ext cx="1981440" cy="1463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3" descr="LiveNymph070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10080" y="1905120"/>
            <a:ext cx="1828800" cy="1598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5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315200" y="403848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7" descr="frog_life_cycl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181480" y="3657600"/>
            <a:ext cx="2086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ther Words to Know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 spaw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o lay eg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es – curves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getarians – living things that eat only food from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1" action="ppaction://hlinksldjump"/>
              </a:rPr>
              <a:t>spaw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7" descr="flickr-frog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EC0010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1905120"/>
            <a:ext cx="2971800" cy="201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sandpaper_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581280"/>
            <a:ext cx="1792440" cy="25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frog%2Bspaw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24080" y="4191120"/>
            <a:ext cx="2514600" cy="190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Frog%2520Spawn%25202007%252000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1905120"/>
            <a:ext cx="2647800" cy="1995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1" descr="Frog%2Bspaw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038480"/>
            <a:ext cx="27054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cabulary Word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w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Student Pages"/>
          <p:cNvPicPr/>
          <p:nvPr/>
        </p:nvPicPr>
        <p:blipFill>
          <a:blip r:embed="rId1"/>
          <a:stretch/>
        </p:blipFill>
        <p:spPr>
          <a:xfrm>
            <a:off x="228600" y="361800"/>
            <a:ext cx="86868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y mose ran up the clo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 grey mouse ran up the clock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d you here that soun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d you hear that sou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7:02Z</dcterms:modified>
  <cp:revision>32</cp:revision>
  <dc:subject/>
  <dc:title>Slide 1</dc:title>
</cp:coreProperties>
</file>